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wmf" ContentType="image/x-wmf"/>
  <Override PartName="/ppt/media/image4.png" ContentType="image/png"/>
  <Override PartName="/ppt/media/image9.wmf" ContentType="image/x-wmf"/>
  <Override PartName="/ppt/media/image16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13.jpeg" ContentType="image/jpeg"/>
  <Override PartName="/ppt/media/image8.jpeg" ContentType="image/jpeg"/>
  <Override PartName="/ppt/media/image5.png" ContentType="image/png"/>
  <Override PartName="/ppt/media/image14.wmf" ContentType="image/x-wmf"/>
  <Override PartName="/ppt/media/image6.png" ContentType="image/png"/>
  <Override PartName="/ppt/media/image10.wmf" ContentType="image/x-wmf"/>
  <Override PartName="/ppt/media/image15.wmf" ContentType="image/x-wmf"/>
  <Override PartName="/ppt/media/image7.png" ContentType="image/png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4D73-1954-4D71-A107-29C3E62D5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54BF-D150-40AC-A2FF-22ED0335F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0532-7970-4C4C-A557-860E4C46D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2F63-81FC-4422-9F29-0DCADFA57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8F9B5-FC4D-428B-B398-AEC02AEEF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51CCC-529E-41E3-9D14-2DB1698F0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D03E3-E7F7-4D47-B909-80BBC03F6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2D670-71A6-4A29-993D-E4C2BCEED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69E9E-6B5F-4628-82E6-371A1656D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6354F-07A1-453F-8F8C-B4A4DF719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BD63C-8AD3-46FB-94C9-4D1C1E9B5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58FC-C9F1-436A-8A33-79739B4EE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EE414-2BC0-4949-A120-A78F1C901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AF23B-174F-401D-AB86-3C5E1AA92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5F3C8-3903-458D-8E95-5395C1570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E2B8E-D9C5-4661-AF1E-E93168534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1D6D1-09E0-48A6-8600-E68F169E9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E2EB-74DA-447D-B32F-6820E3967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9780-FB10-415F-AD0B-649F405A6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CCDA-E855-4932-B8C6-D6D8CD6A9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1206-7488-4BDA-9EC7-A53A8A6C2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B435-7458-4F80-ACA5-D9E2CA007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B3C1-2236-4F18-83D3-5ADD7CC08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0F1C-48D4-417F-AB65-057AE81F1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E0FD5-BEAA-4AFD-9084-D78D1A3C9E1C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00EB4-3A71-4251-BCE8-962C47CC7E1B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player.discoveryeducation.com/index.cfm?guidAssetId=F3DF729C-135D-4DB7-A1A4-E59BC5527C88&amp;blnFromSearch=1&amp;productcode=US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hapter 5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Lesson 3: The Skeletal and Muscular Systems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6248520" y="838080"/>
            <a:ext cx="1803240" cy="18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Would you believe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e smallest bone in the body is only 1/5 of an inch – or 5 mm- long. It’s the stirrup bone, or stapes, inside the middle ear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5257800" y="3581280"/>
            <a:ext cx="1324080" cy="19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onnecting Tissues p. 130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artilage, ligaments, and tendons are connecting tissues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ey link bones and muscles so that the two can work together to move parts of the body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gure 5.8 describes the types of connecting tissues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238880" y="4800600"/>
            <a:ext cx="148752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Muscl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Muscle is tissue that responds to messages from the brain and contracts, or shortens, to cause movement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ome muscles are voluntary, or under your control, such as the muscles in your arms and legs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Others are involuntary and move without you being aware of it. These include muscles of internal organs and blood vessels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7162920" y="5327640"/>
            <a:ext cx="1828800" cy="15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3 Main Types of Muscle Tissue – Fig 5.9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keletal Muscle – voluntary, attached to the bone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mooth Muscle – involuntary, found in internal organs such as the stomach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ardiac Muscle – found only in the heart, involuntary. It contracts and relaxes about 70 times per minute, pumping blood to all parts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of your body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629400" y="5346720"/>
            <a:ext cx="205596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Figure 5.10, p. 131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e Muscular System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124080" y="2286000"/>
            <a:ext cx="43387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Working Together for Movemen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keletal muscles work in pairs to move bones. Each member of the pair is connected to the bone that is to be moved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hen one muscle contracts, the other muscle extends, or lengthens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e muscles switch roles to move the bone back to its original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position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6858000" y="4952880"/>
            <a:ext cx="1484280" cy="15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Caring for Your Skeletal and Muscular System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Exercise regularly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Eat a nutritious die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atch your postur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reat injuries promptly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6172200" y="2362320"/>
            <a:ext cx="1832040" cy="12510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838080" y="4267080"/>
            <a:ext cx="2210040" cy="18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osing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Name 3 types of joints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hat are the 3 types of connecting tissue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Use the words </a:t>
            </a:r>
            <a:r>
              <a:rPr b="0" i="1" lang="en-US" sz="3200" spc="-1" strike="noStrike">
                <a:solidFill>
                  <a:srgbClr val="eaeaea"/>
                </a:solidFill>
                <a:latin typeface="Verdana"/>
              </a:rPr>
              <a:t>contract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and </a:t>
            </a:r>
            <a:r>
              <a:rPr b="0" i="1" lang="en-US" sz="3200" spc="-1" strike="noStrike">
                <a:solidFill>
                  <a:srgbClr val="eaeaea"/>
                </a:solidFill>
                <a:latin typeface="Verdana"/>
              </a:rPr>
              <a:t>extend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in a sentence together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The Skeletal and Muscular System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BELL ACTIVITY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Verdana"/>
              </a:rPr>
              <a:t>Imagine you have no skeletal system and no muscular system. What would you look like?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Verdana"/>
              </a:rPr>
              <a:t>Sketch your idea.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638680" y="3809880"/>
            <a:ext cx="1838520" cy="18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upport and Movement p. 128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You depend on your skeletal and muscular systems to support you and help you move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The skeletal system is the framework of bones and other tissues that support the body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5638680" y="4572000"/>
            <a:ext cx="155916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upport and Movement…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Muscles provide the power to move the body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The muscular system consists of tissues that move parts of  the body and operate internal organs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Example: Your leg muscles help you run and your stomach muscles help you digest food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Did you know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ere are 206 bones – of many shapes and sizes – and more than 600 muscles in an adult human body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e skeletal system consists of bones, joints, and connecting tissues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6400800" y="3048120"/>
            <a:ext cx="3067200" cy="30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he Bones and Joints p. 128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Bones are made of living tissue and, like other organs, are supplied by blood vessels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ey do more than just support and protect your body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Bones store calcium and other minerals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In addition, the inner part of bones, called the marrow, makes new blood cells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7162920" y="3657600"/>
            <a:ext cx="175248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Joints p. 128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Joints are places where two or more bones meet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ome joints are immovable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gure 5.7 identifies some of the major bones in the skeletal system and describes several types on joints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5268960"/>
            <a:ext cx="3962520" cy="15890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3962520" y="5268960"/>
            <a:ext cx="3962160" cy="158904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7672320" y="5334120"/>
            <a:ext cx="14716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600200" y="609480"/>
            <a:ext cx="601992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Did you know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Bones are extremely strong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e femur, the strongest bone in the body, can withstand 1,200 pounds of pressure per square inch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e hard parts of bones are made up of calcium and bundles of a tubelike material called collagen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ese thousands of collagen fibers are flexible but strong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7T12:55:04Z</dcterms:created>
  <dc:creator>GSCS</dc:creator>
  <dc:description/>
  <dc:language>en-US</dc:language>
  <cp:lastModifiedBy>GSCS</cp:lastModifiedBy>
  <dcterms:modified xsi:type="dcterms:W3CDTF">2010-10-28T18:10:26Z</dcterms:modified>
  <cp:revision>9</cp:revision>
  <dc:subject/>
  <dc:title>Chapter 5</dc:title>
</cp:coreProperties>
</file>